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EEE-0232-41F4-8D04-F9B81BCF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AC4-2A56-4FCF-A1B6-46FA863F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CBC-A716-4193-93C4-F772D88D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D83-4C36-4A69-830F-486B8174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74B5-5529-403E-A892-E13557B6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DAEB-DF24-4B1F-B514-89F8A561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299F-4BAC-46D9-819F-1DBE3CF1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89C4-9554-48F0-A8C6-383C8743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8850-463F-4544-8D7D-AED112A6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5799-75D0-4D0B-BD6F-7C047017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D43B-454E-4739-89D7-23D1597D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0DE-9992-4F51-9202-9352DB96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3E20-D9A9-41A7-BA60-6C3B151C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33AE-C8B8-474B-8A2A-AE8D5255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A807-0F76-41D8-A2EC-5743F664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F1CA-8EFD-4B97-A862-26394230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27F7-F4A0-46B6-93F6-D265EA2D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A1A-3B6A-45B3-8993-6D0AE702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E3F-160E-4DD1-A8E6-DF53F9CD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659-10F7-4FA7-9E63-3F4109BE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6A7-5A77-4CD0-BEA3-6A1ACE90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3AC-148D-4A21-BFDB-C8B9617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EB0-E23D-4930-B088-4C989F1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4D3-27F6-4F2E-AFAF-00F9934E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AD0F-3F39-4A70-AD91-77D401F3F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5933-121D-4AE3-B408-10FCE651D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28.xml"/><Relationship Id="rId9" Type="http://schemas.openxmlformats.org/officeDocument/2006/relationships/slide" Target="slide20.xml"/><Relationship Id="rId10" Type="http://schemas.openxmlformats.org/officeDocument/2006/relationships/slide" Target="slide36.xml"/><Relationship Id="rId11" Type="http://schemas.openxmlformats.org/officeDocument/2006/relationships/slide" Target="slide14.xml"/><Relationship Id="rId12" Type="http://schemas.openxmlformats.org/officeDocument/2006/relationships/slide" Target="slide22.xml"/><Relationship Id="rId13" Type="http://schemas.openxmlformats.org/officeDocument/2006/relationships/slide" Target="slide30.xml"/><Relationship Id="rId14" Type="http://schemas.openxmlformats.org/officeDocument/2006/relationships/slide" Target="slide38.xml"/><Relationship Id="rId15" Type="http://schemas.openxmlformats.org/officeDocument/2006/relationships/slide" Target="slide16.xml"/><Relationship Id="rId16" Type="http://schemas.openxmlformats.org/officeDocument/2006/relationships/slide" Target="slide24.xml"/><Relationship Id="rId17" Type="http://schemas.openxmlformats.org/officeDocument/2006/relationships/slide" Target="slide32.xml"/><Relationship Id="rId18" Type="http://schemas.openxmlformats.org/officeDocument/2006/relationships/slide" Target="slide40.xml"/><Relationship Id="rId19" Type="http://schemas.openxmlformats.org/officeDocument/2006/relationships/slide" Target="slide18.xml"/><Relationship Id="rId20" Type="http://schemas.openxmlformats.org/officeDocument/2006/relationships/slide" Target="slide26.xml"/><Relationship Id="rId21" Type="http://schemas.openxmlformats.org/officeDocument/2006/relationships/slide" Target="slide34.xml"/><Relationship Id="rId22" Type="http://schemas.openxmlformats.org/officeDocument/2006/relationships/slide" Target="slide42.xml"/><Relationship Id="rId23" Type="http://schemas.openxmlformats.org/officeDocument/2006/relationships/slide" Target="slide44.xml"/><Relationship Id="rId24" Type="http://schemas.openxmlformats.org/officeDocument/2006/relationships/slide" Target="slide46.xml"/><Relationship Id="rId2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318960"/>
            <a:ext cx="77580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Britannic Bold"/>
              </a:rPr>
              <a:t>Jeopard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838080" y="1523880"/>
          <a:ext cx="777420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77420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8"/>
          <p:cNvSpPr/>
          <p:nvPr/>
        </p:nvSpPr>
        <p:spPr>
          <a:xfrm>
            <a:off x="6843600" y="1752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9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3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4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1066680" y="1600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p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86000" y="1676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Miscellaneous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4114800" y="1523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5562720" y="1523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Brain B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7086600" y="15238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ules of gram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347760" y="1523880"/>
            <a:ext cx="3634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efinat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Concio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Tru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Embarass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Reccom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Acommad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Benif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267080" y="205740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se are all spelled wro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Identify the spelling errors</a:t>
            </a: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2780640" y="1905120"/>
            <a:ext cx="3899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efinit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Conscio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Tru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Embarrass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Recomm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Accommod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Benef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-293760" y="2971800"/>
            <a:ext cx="98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at rule does the word Receive follow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54280" y="3168720"/>
            <a:ext cx="54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I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before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E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, except after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407160" y="3200400"/>
            <a:ext cx="865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What is Enthusiastic shortened?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335600" y="274320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You can’t shorten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“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re is no creature enthused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-228960" y="2743200"/>
            <a:ext cx="91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What is the past tense of drag?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650960" y="3168720"/>
            <a:ext cx="724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ffff"/>
                </a:solidFill>
                <a:uFillTx/>
                <a:latin typeface="Britannic Bold"/>
              </a:rPr>
              <a:t>Dragged</a:t>
            </a:r>
            <a:r>
              <a:rPr b="0" lang="en-US" sz="6000" spc="-1" strike="noStrike">
                <a:solidFill>
                  <a:srgbClr val="00ffff"/>
                </a:solidFill>
                <a:latin typeface="Britannic Bold"/>
              </a:rPr>
              <a:t>, not </a:t>
            </a:r>
            <a:r>
              <a:rPr b="0" lang="en-US" sz="6000" spc="-1" strike="noStrike" u="sng">
                <a:solidFill>
                  <a:srgbClr val="00ffff"/>
                </a:solidFill>
                <a:uFillTx/>
                <a:latin typeface="Britannic Bold"/>
              </a:rPr>
              <a:t>drug</a:t>
            </a:r>
            <a:r>
              <a:rPr b="0" lang="en-US" sz="6000" spc="-1" strike="noStrike">
                <a:solidFill>
                  <a:srgbClr val="00ffff"/>
                </a:solidFill>
                <a:latin typeface="Britannic Bold"/>
              </a:rPr>
              <a:t>.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400 Question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648800" y="3168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do you do to the word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occ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en changing the for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(except for occur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2654640" y="2819520"/>
            <a:ext cx="342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Double the 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Britannic Bold"/>
              </a:rPr>
              <a:t>r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2895480" y="388620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*occur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61960" y="2819520"/>
            <a:ext cx="856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How do you spell the grade befo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first gra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045080" y="2514600"/>
            <a:ext cx="784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kind of grammar part is thei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Expletive (filler wor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ossessive pro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ossessive 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747440" y="3168720"/>
            <a:ext cx="66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B) Possessive pronou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2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011600" y="2666880"/>
            <a:ext cx="788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eople who are under medical ca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ati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ash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2700360" y="320040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Britannic Bold"/>
              </a:rPr>
              <a:t>C) Patient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943640" y="2514600"/>
            <a:ext cx="479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 government group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ounc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ouns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onse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318040" y="2819520"/>
            <a:ext cx="33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Britannic Bold"/>
              </a:rPr>
              <a:t>A) Counci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927800" y="2362320"/>
            <a:ext cx="4659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Suspicion is only a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A) Ver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Indirect Obje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Britannic Bold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Nou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2737440" y="2743200"/>
            <a:ext cx="27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Britannic Bold"/>
              </a:rPr>
              <a:t>C) Nou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1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97280" y="2743200"/>
            <a:ext cx="887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In what place in a title do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lways capitalize words and what wo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do you never capitaliz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38880" y="2133720"/>
            <a:ext cx="75567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*Capitalize the first and last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on’t capitalize a, an, t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*Don’t capitalize the Fanboys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1889280" y="3121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295280" y="31240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Kindergarten with a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t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, not a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Britannic Bold"/>
              </a:rPr>
              <a:t>d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$2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624240" y="2666880"/>
            <a:ext cx="85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en using the word “myself,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word must  you put in front of it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2412360" y="2743200"/>
            <a:ext cx="35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The word “I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526680" y="2743200"/>
            <a:ext cx="83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en do you use whom and wh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688760" y="3168720"/>
            <a:ext cx="59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*Use whom in place of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*Use who in place of 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1725480" y="3168720"/>
            <a:ext cx="68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How do you correctly fill out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envelope? (12 step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m_button"/>
          <p:cNvPicPr/>
          <p:nvPr/>
        </p:nvPicPr>
        <p:blipFill>
          <a:blip r:embed="rId1"/>
          <a:stretch/>
        </p:blipFill>
        <p:spPr>
          <a:xfrm>
            <a:off x="152280" y="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-355680" y="923760"/>
            <a:ext cx="9841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) Blue or black 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2) Title for addresse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3) All capitals, block sty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4) No punc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5) Business name on 2</a:t>
            </a:r>
            <a:r>
              <a:rPr b="0" lang="en-US" sz="2400" spc="-1" strike="noStrike" baseline="30000">
                <a:solidFill>
                  <a:srgbClr val="00ffff"/>
                </a:solidFill>
                <a:latin typeface="Britannic Bold"/>
              </a:rPr>
              <a:t>nd</a:t>
            </a: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6) First and last name for person addre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7) Block printing spaced leg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8) Two capital letters for state ab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9) Zip code on same line as the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0) Four digit code is box number plus enough zeroes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make four dig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1) Abbreviations for common words such as street, avenu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and boulevar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12) P.O. box number by itself on the line above the city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34280" y="2743200"/>
            <a:ext cx="835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ould you use can’t hardly or ca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hardly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1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3048120" y="3048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Can hard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-213840" y="2971800"/>
            <a:ext cx="96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How do you separate a noun from the rest of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sentence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2692440" y="2666880"/>
            <a:ext cx="37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Use a com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-252000" y="2666880"/>
            <a:ext cx="9291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Even though the spelling of Moral 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Morale differ by only one letter, thei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Definitions differ by a lot. Define both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742680" y="3102120"/>
            <a:ext cx="857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When a sentence begins with there, what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ritannic Bold"/>
              </a:rPr>
              <a:t>the rule?</a:t>
            </a:r>
            <a:r>
              <a:rPr b="0" lang="en-US" sz="2400" spc="-1" strike="noStrike">
                <a:solidFill>
                  <a:srgbClr val="00ffff"/>
                </a:solidFill>
                <a:latin typeface="Britannic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975960" y="2971800"/>
            <a:ext cx="814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 verb must agree in number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e noun that follow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698400" y="2971800"/>
            <a:ext cx="804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en do you capitalize seasons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1759680" y="27432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Only when personifi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Question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770840" y="3168720"/>
            <a:ext cx="67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do you avoid using in “if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clauses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500 Answer from H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2520720" y="2819520"/>
            <a:ext cx="383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Would have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Final Jeopar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26360" y="2438280"/>
            <a:ext cx="810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is author wrote, “If one man kill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nother, it  murder, but if a hundr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ousand men kill another hundr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act of glory!?”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Final Jeopardy 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64040" y="2766960"/>
            <a:ext cx="464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ritannic Bold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2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-224280" y="2971800"/>
            <a:ext cx="9330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Moral – pertains to sense of right o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Morale – pertains to persons mood o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                  </a:t>
            </a: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level of spirit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853920" y="2971800"/>
            <a:ext cx="81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What is the way to remember how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spell congratulation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3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889280" y="3168720"/>
            <a:ext cx="474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ritannic Bold"/>
              </a:rPr>
              <a:t>You say congrat’s not congrad’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Question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-278280" y="2743200"/>
            <a:ext cx="1002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en changing mischief to mischievous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itannic Bold"/>
              </a:rPr>
              <a:t>what letter do you drop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$400 Answer from H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3619440" y="2825640"/>
            <a:ext cx="24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Britannic Bold"/>
              </a:rPr>
              <a:t>The “F.”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12</cp:lastModifiedBy>
  <dcterms:modified xsi:type="dcterms:W3CDTF">2010-05-19T18:49:32Z</dcterms:modified>
  <cp:revision>21</cp:revision>
  <dc:subject/>
  <dc:title>Jeopardy</dc:title>
</cp:coreProperties>
</file>